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1DA7-0714-4293-BC6A-C0274517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C7C4-0BF0-4300-8FB3-51DFEDEF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3120" y="41306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32A7-BDE2-4332-9D17-B4E2111C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21400" y="19810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3480" y="19810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21400" y="41306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3480" y="41306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3715-D6CB-410A-B14B-26A4EB84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DA81-25FF-4804-A148-554EFCAD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C02C-533C-4405-A5AF-8F7F8DE7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5FF2-2052-48C5-965A-BB6F24B5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C163-E25B-452B-8CA0-1D3F15BB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CD9A-3A7F-405F-8DEC-83E4F209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CEBE-BBCF-4BC3-9442-69535410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D585-BFE4-4747-866A-660B83BC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190D-C061-442C-B84F-5DDC53C3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3120" y="41306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FAAA-64D5-47E6-8537-8D0F01E4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FF45-A7EE-4A52-9F20-37C44DB8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D03E-F421-4D67-844D-7AF309A3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3120" y="41306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8A89-5EDA-49CA-9481-00D30FAD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21400" y="19810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23480" y="19810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21400" y="41306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23480" y="41306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F402-C4B8-49E8-BF76-376592E6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3722-3343-424A-AD31-65B27814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2BC0-8995-4A43-8641-02E3C22E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5DFD-27D5-4C4D-8AF3-CA6B9336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1EFC-03EB-498A-8995-C226B5A3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37D0-BC1F-427A-925A-8B55A23D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3120" y="41306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B233-BF30-4440-821D-9D8F714A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903A-C425-4A22-843A-76B008ED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703A-17CD-43F3-9259-B1AC45A24062}" type="slidenum">
              <a:rPr b="0" lang="es-ES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E9A7-1A3D-41D3-93C9-73E96DB79C23}" type="slidenum">
              <a:rPr b="0" lang="es-ES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C:\WINDOWS\Escritorio\Vista528\ViSta.exe" TargetMode="External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523880" y="4038480"/>
          <a:ext cx="1724040" cy="182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038480"/>
                    <a:ext cx="17240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cc"/>
                </a:solidFill>
                <a:latin typeface="Arial Narrow"/>
              </a:rPr>
              <a:t>Lección Magistral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886200" y="43434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edro M. Valero Mo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acultat de Psicolog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niversitat de Valè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2209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Datos Faltantes Multivaria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oluciones a los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212840" y="1833480"/>
          <a:ext cx="8010360" cy="44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12840" y="1833480"/>
                    <a:ext cx="801036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5486400" y="2057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orrado por P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2743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sventaj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62720" y="44197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os paquetes estadísticos no las us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38680" y="34290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número de casos es inestable en cada p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523880" y="1676520"/>
            <a:ext cx="1752840" cy="4419360"/>
            <a:chOff x="1523880" y="1676520"/>
            <a:chExt cx="1752840" cy="4419360"/>
          </a:xfrm>
        </p:grpSpPr>
        <p:sp>
          <p:nvSpPr>
            <p:cNvPr id="169" name=""/>
            <p:cNvSpPr/>
            <p:nvPr/>
          </p:nvSpPr>
          <p:spPr>
            <a:xfrm>
              <a:off x="1523880" y="1676520"/>
              <a:ext cx="1752840" cy="4419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23880" y="2590920"/>
              <a:ext cx="175284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23880" y="3733920"/>
              <a:ext cx="175284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880" y="5257800"/>
              <a:ext cx="175284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276720" y="1676520"/>
            <a:ext cx="1752480" cy="4419360"/>
            <a:chOff x="3276720" y="1676520"/>
            <a:chExt cx="1752480" cy="4419360"/>
          </a:xfrm>
        </p:grpSpPr>
        <p:sp>
          <p:nvSpPr>
            <p:cNvPr id="174" name=""/>
            <p:cNvSpPr/>
            <p:nvPr/>
          </p:nvSpPr>
          <p:spPr>
            <a:xfrm>
              <a:off x="3276720" y="1676520"/>
              <a:ext cx="1752480" cy="4419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76720" y="2590920"/>
              <a:ext cx="175248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6720" y="4572000"/>
              <a:ext cx="175248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oluciones a los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1447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imación-Maxim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76320" y="3068640"/>
          <a:ext cx="5410080" cy="302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068640"/>
                    <a:ext cx="5410080" cy="30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52280" y="3068640"/>
          <a:ext cx="5334120" cy="2987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068640"/>
                    <a:ext cx="533412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24280" y="2603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41440" y="1801800"/>
            <a:ext cx="7999200" cy="3448080"/>
            <a:chOff x="541440" y="1801800"/>
            <a:chExt cx="7999200" cy="3448080"/>
          </a:xfrm>
        </p:grpSpPr>
        <p:sp>
          <p:nvSpPr>
            <p:cNvPr id="186" name=""/>
            <p:cNvSpPr/>
            <p:nvPr/>
          </p:nvSpPr>
          <p:spPr>
            <a:xfrm>
              <a:off x="4724280" y="26035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5875200" y="3328920"/>
                  <a:ext cx="2665440" cy="192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b>
                            </m:sSub>
                          </m:e>
                        </m:mr>
                        <m:m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e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</m:sub>
                            </m:sSub>
                          </m:e>
                        </m:mr>
                        <m:m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sub>
                            </m:sSub>
                          </m:e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b>
                            </m:sSub>
                          </m:e>
                        </m:mr>
                        <m:m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41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43</m:t>
                                </m:r>
                              </m:sub>
                            </m:sSub>
                          </m:e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188" name=""/>
            <p:cNvSpPr/>
            <p:nvPr/>
          </p:nvSpPr>
          <p:spPr>
            <a:xfrm>
              <a:off x="2979720" y="2146320"/>
              <a:ext cx="4952880" cy="914400"/>
            </a:xfrm>
            <a:custGeom>
              <a:avLst/>
              <a:gdLst>
                <a:gd name="textAreaLeft" fmla="*/ 866520 w 4952880"/>
                <a:gd name="textAreaRight" fmla="*/ 3591000 w 4952880"/>
                <a:gd name="textAreaTop" fmla="*/ 122400 h 914400"/>
                <a:gd name="textAreaBottom" fmla="*/ 7920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541440" y="1801800"/>
              <a:ext cx="838080" cy="804240"/>
              <a:chOff x="541440" y="1801800"/>
              <a:chExt cx="838080" cy="804240"/>
            </a:xfrm>
          </p:grpSpPr>
          <p:sp>
            <p:nvSpPr>
              <p:cNvPr id="190" name=""/>
              <p:cNvSpPr/>
              <p:nvPr/>
            </p:nvSpPr>
            <p:spPr>
              <a:xfrm>
                <a:off x="541440" y="1801800"/>
                <a:ext cx="8380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4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71840" y="2146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oluciones a los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1447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imación-Maxim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76320" y="3068640"/>
          <a:ext cx="5410080" cy="302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068640"/>
                    <a:ext cx="5410080" cy="30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875200" y="3328920"/>
                <a:ext cx="2665440" cy="19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3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197" name=""/>
          <p:cNvGrpSpPr/>
          <p:nvPr/>
        </p:nvGrpSpPr>
        <p:grpSpPr>
          <a:xfrm>
            <a:off x="541440" y="1801800"/>
            <a:ext cx="838080" cy="804240"/>
            <a:chOff x="541440" y="1801800"/>
            <a:chExt cx="838080" cy="804240"/>
          </a:xfrm>
        </p:grpSpPr>
        <p:sp>
          <p:nvSpPr>
            <p:cNvPr id="198" name=""/>
            <p:cNvSpPr/>
            <p:nvPr/>
          </p:nvSpPr>
          <p:spPr>
            <a:xfrm>
              <a:off x="541440" y="180180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1840" y="214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 flipH="1" flipV="1">
            <a:off x="2440080" y="5638680"/>
            <a:ext cx="4952880" cy="914400"/>
          </a:xfrm>
          <a:custGeom>
            <a:avLst/>
            <a:gdLst>
              <a:gd name="textAreaLeft" fmla="*/ 866520 w 4952880"/>
              <a:gd name="textAreaRight" fmla="*/ 3591000 w 495288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2040" y="5586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2603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oluciones a los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1447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imación-Maxim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71280" y="3073320"/>
          <a:ext cx="5340600" cy="303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3073320"/>
                    <a:ext cx="53406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875200" y="3328920"/>
                <a:ext cx="2665440" cy="19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3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208" name=""/>
          <p:cNvGrpSpPr/>
          <p:nvPr/>
        </p:nvGrpSpPr>
        <p:grpSpPr>
          <a:xfrm>
            <a:off x="541440" y="1801800"/>
            <a:ext cx="838080" cy="804240"/>
            <a:chOff x="541440" y="1801800"/>
            <a:chExt cx="838080" cy="804240"/>
          </a:xfrm>
        </p:grpSpPr>
        <p:sp>
          <p:nvSpPr>
            <p:cNvPr id="209" name=""/>
            <p:cNvSpPr/>
            <p:nvPr/>
          </p:nvSpPr>
          <p:spPr>
            <a:xfrm>
              <a:off x="541440" y="180180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1840" y="214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 flipH="1" flipV="1">
            <a:off x="2440080" y="5638680"/>
            <a:ext cx="4952880" cy="914400"/>
          </a:xfrm>
          <a:custGeom>
            <a:avLst/>
            <a:gdLst>
              <a:gd name="textAreaLeft" fmla="*/ 866520 w 4952880"/>
              <a:gd name="textAreaRight" fmla="*/ 3591000 w 495288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02040" y="5586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oluciones a los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1447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imación-Maxim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1280" y="3073320"/>
          <a:ext cx="5340600" cy="303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3073320"/>
                    <a:ext cx="53406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7" name=""/>
          <p:cNvGrpSpPr/>
          <p:nvPr/>
        </p:nvGrpSpPr>
        <p:grpSpPr>
          <a:xfrm>
            <a:off x="541440" y="1801800"/>
            <a:ext cx="7999200" cy="3448080"/>
            <a:chOff x="541440" y="1801800"/>
            <a:chExt cx="7999200" cy="3448080"/>
          </a:xfrm>
        </p:grpSpPr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5875200" y="3328920"/>
                  <a:ext cx="2665440" cy="192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b>
                            </m:sSub>
                          </m:e>
                        </m:mr>
                        <m:m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e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</m:sub>
                            </m:sSub>
                          </m:e>
                        </m:mr>
                        <m:m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sub>
                            </m:sSub>
                          </m:e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b>
                            </m:sSub>
                          </m:e>
                        </m:mr>
                        <m:m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41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43</m:t>
                                </m:r>
                              </m:sub>
                            </m:sSub>
                          </m:e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"/>
            <p:cNvSpPr/>
            <p:nvPr/>
          </p:nvSpPr>
          <p:spPr>
            <a:xfrm>
              <a:off x="2979720" y="2146320"/>
              <a:ext cx="4952880" cy="914400"/>
            </a:xfrm>
            <a:custGeom>
              <a:avLst/>
              <a:gdLst>
                <a:gd name="textAreaLeft" fmla="*/ 866520 w 4952880"/>
                <a:gd name="textAreaRight" fmla="*/ 3591000 w 4952880"/>
                <a:gd name="textAreaTop" fmla="*/ 122400 h 914400"/>
                <a:gd name="textAreaBottom" fmla="*/ 7920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541440" y="1801800"/>
              <a:ext cx="838080" cy="804240"/>
              <a:chOff x="541440" y="1801800"/>
              <a:chExt cx="838080" cy="804240"/>
            </a:xfrm>
          </p:grpSpPr>
          <p:sp>
            <p:nvSpPr>
              <p:cNvPr id="221" name=""/>
              <p:cNvSpPr/>
              <p:nvPr/>
            </p:nvSpPr>
            <p:spPr>
              <a:xfrm>
                <a:off x="541440" y="1801800"/>
                <a:ext cx="8380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4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71840" y="2146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3" name=""/>
          <p:cNvSpPr/>
          <p:nvPr/>
        </p:nvSpPr>
        <p:spPr>
          <a:xfrm flipH="1" flipV="1">
            <a:off x="2440080" y="5638680"/>
            <a:ext cx="4952880" cy="914400"/>
          </a:xfrm>
          <a:custGeom>
            <a:avLst/>
            <a:gdLst>
              <a:gd name="textAreaLeft" fmla="*/ 866520 w 4952880"/>
              <a:gd name="textAreaRight" fmla="*/ 3591000 w 495288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02040" y="5586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2603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oluciones a los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1447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imación-Maxim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1280" y="3073320"/>
          <a:ext cx="5340600" cy="303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3073320"/>
                    <a:ext cx="53406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5875200" y="3328920"/>
                <a:ext cx="2665440" cy="19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3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231" name=""/>
          <p:cNvGrpSpPr/>
          <p:nvPr/>
        </p:nvGrpSpPr>
        <p:grpSpPr>
          <a:xfrm>
            <a:off x="541440" y="1801800"/>
            <a:ext cx="838080" cy="804240"/>
            <a:chOff x="541440" y="1801800"/>
            <a:chExt cx="838080" cy="804240"/>
          </a:xfrm>
        </p:grpSpPr>
        <p:sp>
          <p:nvSpPr>
            <p:cNvPr id="232" name=""/>
            <p:cNvSpPr/>
            <p:nvPr/>
          </p:nvSpPr>
          <p:spPr>
            <a:xfrm>
              <a:off x="541440" y="180180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1840" y="214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724280" y="2603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oluciones a los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1447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imación-Maxim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71280" y="3073320"/>
          <a:ext cx="5340600" cy="303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3073320"/>
                    <a:ext cx="53406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875200" y="3328920"/>
                <a:ext cx="2665440" cy="19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3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240" name=""/>
          <p:cNvGrpSpPr/>
          <p:nvPr/>
        </p:nvGrpSpPr>
        <p:grpSpPr>
          <a:xfrm>
            <a:off x="541440" y="1801800"/>
            <a:ext cx="838080" cy="804240"/>
            <a:chOff x="541440" y="1801800"/>
            <a:chExt cx="838080" cy="804240"/>
          </a:xfrm>
        </p:grpSpPr>
        <p:sp>
          <p:nvSpPr>
            <p:cNvPr id="241" name=""/>
            <p:cNvSpPr/>
            <p:nvPr/>
          </p:nvSpPr>
          <p:spPr>
            <a:xfrm>
              <a:off x="541440" y="180180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1840" y="214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 flipH="1" flipV="1">
            <a:off x="2440080" y="5638680"/>
            <a:ext cx="4952880" cy="914400"/>
          </a:xfrm>
          <a:custGeom>
            <a:avLst/>
            <a:gdLst>
              <a:gd name="textAreaLeft" fmla="*/ 866520 w 4952880"/>
              <a:gd name="textAreaRight" fmla="*/ 3591000 w 495288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02040" y="5586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24280" y="2603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oluciones a los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1447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imación-Maxim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71280" y="3073320"/>
          <a:ext cx="5340600" cy="303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3073320"/>
                    <a:ext cx="53406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5875200" y="3328920"/>
                <a:ext cx="2665440" cy="19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3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251" name=""/>
          <p:cNvGrpSpPr/>
          <p:nvPr/>
        </p:nvGrpSpPr>
        <p:grpSpPr>
          <a:xfrm>
            <a:off x="541440" y="1801800"/>
            <a:ext cx="838080" cy="804240"/>
            <a:chOff x="541440" y="1801800"/>
            <a:chExt cx="838080" cy="804240"/>
          </a:xfrm>
        </p:grpSpPr>
        <p:sp>
          <p:nvSpPr>
            <p:cNvPr id="252" name=""/>
            <p:cNvSpPr/>
            <p:nvPr/>
          </p:nvSpPr>
          <p:spPr>
            <a:xfrm>
              <a:off x="541440" y="180180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71840" y="214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 flipH="1" flipV="1">
            <a:off x="2440080" y="5638680"/>
            <a:ext cx="4952880" cy="914400"/>
          </a:xfrm>
          <a:custGeom>
            <a:avLst/>
            <a:gdLst>
              <a:gd name="textAreaLeft" fmla="*/ 866520 w 4952880"/>
              <a:gd name="textAreaRight" fmla="*/ 3591000 w 495288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02040" y="5586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24280" y="2603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oluciones a los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1447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imación-Maxim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71280" y="3073320"/>
          <a:ext cx="5340600" cy="303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3073320"/>
                    <a:ext cx="53406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1" name=""/>
          <p:cNvGrpSpPr/>
          <p:nvPr/>
        </p:nvGrpSpPr>
        <p:grpSpPr>
          <a:xfrm>
            <a:off x="541440" y="1801800"/>
            <a:ext cx="7999200" cy="3448080"/>
            <a:chOff x="541440" y="1801800"/>
            <a:chExt cx="7999200" cy="3448080"/>
          </a:xfrm>
        </p:grpSpPr>
        <mc:AlternateContent>
          <mc:Choice xmlns:a14="http://schemas.microsoft.com/office/drawing/2010/main" Requires="a14">
            <p:sp>
              <p:nvSpPr>
                <p:cNvPr id="262" name=""/>
                <p:cNvSpPr txBox="1"/>
                <p:nvPr/>
              </p:nvSpPr>
              <p:spPr>
                <a:xfrm>
                  <a:off x="5875200" y="3328920"/>
                  <a:ext cx="2665440" cy="192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b>
                            </m:sSub>
                          </m:e>
                        </m:mr>
                        <m:m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e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</m:sub>
                            </m:sSub>
                          </m:e>
                        </m:mr>
                        <m:m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sub>
                            </m:sSub>
                          </m:e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b>
                            </m:sSub>
                          </m:e>
                        </m:mr>
                        <m:m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41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43</m:t>
                                </m:r>
                              </m:sub>
                            </m:sSub>
                          </m:e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263" name=""/>
            <p:cNvSpPr/>
            <p:nvPr/>
          </p:nvSpPr>
          <p:spPr>
            <a:xfrm>
              <a:off x="2979720" y="2146320"/>
              <a:ext cx="4952880" cy="914400"/>
            </a:xfrm>
            <a:custGeom>
              <a:avLst/>
              <a:gdLst>
                <a:gd name="textAreaLeft" fmla="*/ 866520 w 4952880"/>
                <a:gd name="textAreaRight" fmla="*/ 3591000 w 4952880"/>
                <a:gd name="textAreaTop" fmla="*/ 122400 h 914400"/>
                <a:gd name="textAreaBottom" fmla="*/ 7920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541440" y="1801800"/>
              <a:ext cx="838080" cy="804240"/>
              <a:chOff x="541440" y="1801800"/>
              <a:chExt cx="838080" cy="804240"/>
            </a:xfrm>
          </p:grpSpPr>
          <p:sp>
            <p:nvSpPr>
              <p:cNvPr id="265" name=""/>
              <p:cNvSpPr/>
              <p:nvPr/>
            </p:nvSpPr>
            <p:spPr>
              <a:xfrm>
                <a:off x="541440" y="1801800"/>
                <a:ext cx="8380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4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71840" y="2146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7" name=""/>
          <p:cNvSpPr/>
          <p:nvPr/>
        </p:nvSpPr>
        <p:spPr>
          <a:xfrm flipH="1" flipV="1">
            <a:off x="2440080" y="5638680"/>
            <a:ext cx="4952880" cy="914400"/>
          </a:xfrm>
          <a:custGeom>
            <a:avLst/>
            <a:gdLst>
              <a:gd name="textAreaLeft" fmla="*/ 866520 w 4952880"/>
              <a:gd name="textAreaRight" fmla="*/ 3591000 w 495288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02040" y="5586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2603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oluciones a los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175248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imación-Maxim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riterio de det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371600" y="3505320"/>
            <a:ext cx="838080" cy="804240"/>
            <a:chOff x="1371600" y="3505320"/>
            <a:chExt cx="838080" cy="804240"/>
          </a:xfrm>
        </p:grpSpPr>
        <p:sp>
          <p:nvSpPr>
            <p:cNvPr id="273" name=""/>
            <p:cNvSpPr/>
            <p:nvPr/>
          </p:nvSpPr>
          <p:spPr>
            <a:xfrm>
              <a:off x="1371600" y="350532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00920" y="384984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687240" y="4307040"/>
                <a:ext cx="2665440" cy="19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3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276" name=""/>
          <p:cNvGrpSpPr/>
          <p:nvPr/>
        </p:nvGrpSpPr>
        <p:grpSpPr>
          <a:xfrm>
            <a:off x="4876920" y="3505320"/>
            <a:ext cx="838080" cy="804240"/>
            <a:chOff x="4876920" y="3505320"/>
            <a:chExt cx="838080" cy="804240"/>
          </a:xfrm>
        </p:grpSpPr>
        <p:sp>
          <p:nvSpPr>
            <p:cNvPr id="277" name=""/>
            <p:cNvSpPr/>
            <p:nvPr/>
          </p:nvSpPr>
          <p:spPr>
            <a:xfrm>
              <a:off x="4876920" y="350532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06600" y="38498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963960" y="4346640"/>
                <a:ext cx="2665440" cy="19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3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2971800" y="476424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29400" y="491652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&lt; 0.000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Ubicació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ta lección corresponde al Bloque de contenidos sobre Datos Faltantes en su parte Avanz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e contenidos Teóricos y además Actividades que podrían realizarse en las Prácticas de la Asigna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oluciones a los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-1212840" y="1833480"/>
          <a:ext cx="8010360" cy="44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12840" y="1833480"/>
                    <a:ext cx="801036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548640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imación-Maxim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2720" y="2743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entaj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91320" y="3962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co Agres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3352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triz Compl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44956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imaciones de las Puntu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91320" y="54100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triz Covarianzas bien defin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oluciones a los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-1212840" y="1833480"/>
          <a:ext cx="8010360" cy="44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12840" y="1833480"/>
                    <a:ext cx="801036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548640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imación-Maxim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2743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sventaj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4281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ventar dato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67280" y="335268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puntuaciones están sobreajust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4844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disponi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67280" y="541008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upuestos acerca de mecanis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El problema: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esg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038480" y="2057400"/>
          <a:ext cx="5029200" cy="399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057400"/>
                    <a:ext cx="5029200" cy="39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533520" y="20574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r Faltante 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dependiente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y de X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atos Faltantes Completamente al Az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FC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4419720"/>
            <a:ext cx="2819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a Ca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imación-Maxim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57800" y="6056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du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2553840" y="3770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l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El problema: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esg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4886280" y="2286000"/>
          <a:ext cx="4105440" cy="37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2286000"/>
                    <a:ext cx="410544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762120" y="31240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5257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imación-Maxim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15000" y="6056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du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16200000">
            <a:off x="3315960" y="3770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l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7440" y="2114640"/>
            <a:ext cx="32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r Faltante depende de X pero no de Y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atos Faltantes al Azar (F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El problema: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esg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743360" y="2286000"/>
          <a:ext cx="409572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3360" y="2286000"/>
                    <a:ext cx="409572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533520" y="4267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ecanismo No Ignor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124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i FA ni F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4876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ingún Méto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10080" y="5943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du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16200000">
            <a:off x="3239640" y="3846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l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Exploración de datos faltant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286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Cómo podemos evaluar unos datos que no tenem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33720" y="36576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arando los diversos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809880" y="4495680"/>
          <a:ext cx="114300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4495680"/>
                    <a:ext cx="11430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Conclusion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2286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exploración de datos faltantes con ViSta perm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47920" y="3048120"/>
            <a:ext cx="6858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mprobar el efecto de los valores  faltantes sobre nuestros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valuar el sesgo que introduc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sta exploración puede realizarse de modo interactivo por el alumno, explorando las interconexiones entre gráf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El problema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uando un sujeto no responde a una pregunta nos encontramos ante un caso con un valor faltan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lgunas variables que producirán valores faltantes a menudo s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981080" y="426888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alari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629400" y="449424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Voto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495680" y="563868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nducta íntim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90920" y="4802040"/>
            <a:ext cx="26384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nductas delictiva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El problema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8000"/>
          </a:bodyPr>
          <a:p>
            <a:pPr marL="198720" indent="-198720">
              <a:spcBef>
                <a:spcPts val="95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Arial"/>
              </a:rPr>
              <a:t>Los valores faltantes producen dos tipos de problem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430920" indent="-165600">
              <a:spcBef>
                <a:spcPts val="950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Arial"/>
              </a:rPr>
              <a:t>Problemas de Cálculo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198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0920" indent="-165600">
              <a:spcBef>
                <a:spcPts val="950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Arial"/>
              </a:rPr>
              <a:t>Problemas de Sesgo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El problema: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-1220760" y="1828800"/>
          <a:ext cx="8085240" cy="456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20760" y="1828800"/>
                    <a:ext cx="808524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769080" y="2057400"/>
                <a:ext cx="82548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</m:e>
                            </m:nary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" name=""/>
          <p:cNvGrpSpPr/>
          <p:nvPr/>
        </p:nvGrpSpPr>
        <p:grpSpPr>
          <a:xfrm>
            <a:off x="6477120" y="2819520"/>
            <a:ext cx="533160" cy="520560"/>
            <a:chOff x="6477120" y="2819520"/>
            <a:chExt cx="533160" cy="520560"/>
          </a:xfrm>
        </p:grpSpPr>
        <p:sp>
          <p:nvSpPr>
            <p:cNvPr id="104" name=""/>
            <p:cNvSpPr/>
            <p:nvPr/>
          </p:nvSpPr>
          <p:spPr>
            <a:xfrm>
              <a:off x="6477120" y="28195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53080" y="2895840"/>
              <a:ext cx="228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7162920" y="32004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638680" y="3809880"/>
            <a:ext cx="2540160" cy="1168560"/>
            <a:chOff x="5638680" y="3809880"/>
            <a:chExt cx="2540160" cy="1168560"/>
          </a:xfrm>
        </p:grpSpPr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5638680" y="3886200"/>
                  <a:ext cx="113040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7162920" y="3809880"/>
                  <a:ext cx="1015920" cy="47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7086600" y="4495680"/>
                  <a:ext cx="1001880" cy="47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5715000" y="4495680"/>
                  <a:ext cx="97776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El problema: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-1212840" y="1833480"/>
          <a:ext cx="8010360" cy="44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12840" y="1833480"/>
                    <a:ext cx="801036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562720" y="3048120"/>
                <a:ext cx="2665440" cy="19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43</m:t>
                              </m:r>
                            </m:sub>
                          </m:sSub>
                        </m:e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 flipV="1">
            <a:off x="5562720" y="1980360"/>
            <a:ext cx="1676160" cy="685800"/>
          </a:xfrm>
          <a:custGeom>
            <a:avLst/>
            <a:gdLst>
              <a:gd name="textAreaLeft" fmla="*/ 558720 w 1676160"/>
              <a:gd name="textAreaRight" fmla="*/ 1435680 w 167616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019920" y="3200400"/>
                <a:ext cx="1734840" cy="18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t xml:space="preserve">7</m:t>
                          </m:r>
                        </m:e>
                        <m:e>
                          <m:r>
                            <m:t xml:space="preserve">9</m:t>
                          </m:r>
                        </m:e>
                        <m:e>
                          <m:r>
                            <m:t xml:space="preserve">9</m:t>
                          </m:r>
                        </m:e>
                      </m:mr>
                      <m:mr>
                        <m:e>
                          <m:r>
                            <m:t xml:space="preserve">7</m:t>
                          </m:r>
                        </m:e>
                        <m:e>
                          <m:r>
                            <m:t xml:space="preserve">7</m:t>
                          </m:r>
                        </m:e>
                        <m:e>
                          <m:r>
                            <m:t xml:space="preserve">6</m:t>
                          </m:r>
                        </m:e>
                        <m:e>
                          <m:r>
                            <m:t xml:space="preserve">7</m:t>
                          </m:r>
                        </m:e>
                      </m:mr>
                      <m:mr>
                        <m:e>
                          <m:r>
                            <m:t xml:space="preserve">9</m:t>
                          </m:r>
                        </m:e>
                        <m:e>
                          <m:r>
                            <m:t xml:space="preserve">6</m:t>
                          </m:r>
                        </m:e>
                        <m:e>
                          <m:r>
                            <m:t xml:space="preserve">9</m:t>
                          </m:r>
                        </m:e>
                        <m:e>
                          <m:r>
                            <m:t xml:space="preserve">8</m:t>
                          </m:r>
                        </m:e>
                      </m:mr>
                      <m:mr>
                        <m:e>
                          <m:r>
                            <m:t xml:space="preserve">9</m:t>
                          </m:r>
                        </m:e>
                        <m:e>
                          <m:r>
                            <m:t xml:space="preserve">7</m:t>
                          </m:r>
                        </m:e>
                        <m:e>
                          <m:r>
                            <m:t xml:space="preserve">8</m:t>
                          </m:r>
                        </m:e>
                        <m:e>
                          <m:r>
                            <m:t xml:space="preserve">9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oluciones a los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-1212840" y="1833480"/>
          <a:ext cx="8010360" cy="44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12840" y="1833480"/>
                    <a:ext cx="801036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5486400" y="2057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orrado Caso por Ca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2590920"/>
            <a:ext cx="434340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3809880"/>
            <a:ext cx="43434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4572000"/>
            <a:ext cx="43434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5334120"/>
            <a:ext cx="434340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2743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entaj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1320" y="3581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triz Compl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4038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4495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cep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oluciones a los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-1212840" y="1833480"/>
          <a:ext cx="8010360" cy="44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12840" y="1833480"/>
                    <a:ext cx="801036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5486400" y="2057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orrado Caso por Ca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2743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sventaj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3581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es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40384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ferentes casos según mod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4876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s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1752480"/>
            <a:ext cx="19051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1752480"/>
            <a:ext cx="2743200" cy="4343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2590920"/>
            <a:ext cx="19051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3733920"/>
            <a:ext cx="19051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334120"/>
            <a:ext cx="190512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4572000"/>
            <a:ext cx="274320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Soluciones a los </a:t>
            </a:r>
            <a:br>
              <a:rPr sz="4800"/>
            </a:br>
            <a:r>
              <a:rPr b="1" lang="es-ES_tradnl" sz="4800" spc="-1" strike="noStrike">
                <a:solidFill>
                  <a:srgbClr val="ffffcc"/>
                </a:solidFill>
                <a:latin typeface="Arial Narrow"/>
              </a:rPr>
              <a:t>Problemas de Cálcu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-1212840" y="1833480"/>
          <a:ext cx="8010360" cy="44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12840" y="1833480"/>
                    <a:ext cx="801036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486400" y="2057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orrado por P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2743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entaj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3581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enos Agres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4038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4495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provechable a ve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523880" y="1676520"/>
            <a:ext cx="1752840" cy="4419360"/>
            <a:chOff x="1523880" y="1676520"/>
            <a:chExt cx="1752840" cy="4419360"/>
          </a:xfrm>
        </p:grpSpPr>
        <p:sp>
          <p:nvSpPr>
            <p:cNvPr id="153" name=""/>
            <p:cNvSpPr/>
            <p:nvPr/>
          </p:nvSpPr>
          <p:spPr>
            <a:xfrm>
              <a:off x="1523880" y="1676520"/>
              <a:ext cx="1752840" cy="4419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23880" y="2590920"/>
              <a:ext cx="175284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23880" y="3733920"/>
              <a:ext cx="175284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23880" y="5257800"/>
              <a:ext cx="175284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276720" y="1676520"/>
            <a:ext cx="1752480" cy="4419360"/>
            <a:chOff x="3276720" y="1676520"/>
            <a:chExt cx="1752480" cy="4419360"/>
          </a:xfrm>
        </p:grpSpPr>
        <p:sp>
          <p:nvSpPr>
            <p:cNvPr id="158" name=""/>
            <p:cNvSpPr/>
            <p:nvPr/>
          </p:nvSpPr>
          <p:spPr>
            <a:xfrm>
              <a:off x="3276720" y="1676520"/>
              <a:ext cx="1752480" cy="4419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76720" y="2590920"/>
              <a:ext cx="175248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76720" y="4572000"/>
              <a:ext cx="175248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20:43:52Z</dcterms:created>
  <dc:creator>win95</dc:creator>
  <dc:description/>
  <dc:language>en-US</dc:language>
  <cp:lastModifiedBy>win95</cp:lastModifiedBy>
  <dcterms:modified xsi:type="dcterms:W3CDTF">1999-01-21T23:06:04Z</dcterms:modified>
  <cp:revision>78</cp:revision>
  <dc:subject/>
  <dc:title>Curriculum Docente</dc:title>
</cp:coreProperties>
</file>